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move the slide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F99B-CDD5-4D64-A68D-CBFC7D61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2F4-4F1B-448E-BE6F-305EF346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388-BC23-4EF7-97BF-415749BD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ACD-3DA3-413B-9DFB-57E8A0A4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DEA-2A02-4045-8FE0-3B3676DF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D41-9625-4C48-B411-528C9EFE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21C0-70E1-4DB0-9349-E86F00BC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7326-7C2F-4F02-B5B8-AFA80BC0D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837B-1D2E-494B-833C-C87C9C3C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AFF-E2A8-41E1-9902-65316168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3AE-73F0-4DCD-ACA2-645B9FA5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B27-AFBE-4D72-8BD6-07483AE8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14B-B226-4144-9E8D-52D08308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01E-6FC1-40C4-B9B0-3074EBAE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24C-0E80-4338-99AA-11DEE322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06E-C065-4BFA-B680-2B5A21D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665C9-C154-47C5-A165-D8F7AF6F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0335A-F5D9-4955-B322-4734BB5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6D90F-82AF-4EF1-BB15-D9F7DEDB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9D35B-8351-48D1-8577-22EF283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8D4DD-30D5-4198-984F-6E9E301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D2D1D-401D-4696-B212-7F6947E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A866-187C-4402-8B31-94DF412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DD0CF-96A7-45B2-B8CE-5CA8B7CC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BE2CA-8403-48BB-B200-75633663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E22A2-7376-4B69-BE8D-C876F06F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BD8-B4D9-44AF-8CF6-83B2B05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5082C-E301-48E3-901A-A8863EC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68DB3-27A6-4099-A761-D31161A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50AA7-0095-4A4C-9445-9D4F104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D05E7-BABA-4CF8-BC39-0781FEF7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FC6EE-43BE-48BE-ACB4-AB0D91D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7D551-3AA1-4679-94AB-F258E3B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2D17A-1EDA-43D8-BD70-1D8A563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A30FC-0FF0-46BF-82FB-452AD12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C8F5E-4F5E-4D6B-8517-EF167D2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D120B-E6E6-47EE-A172-8F10C59A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C6C-C736-4E01-A7A9-9202FAF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8C0AA-281D-4D19-A8B9-D21A5676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D1B2A-DEEE-40D9-9032-EF21684B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8DBA7-D1D0-4A92-9F23-184C36DF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EE5FE-BD25-44AF-B018-2A666BFB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0842-31CF-44D6-B528-32B39D00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D441B-5FAE-456A-BE39-CFCC05A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4174B-7991-48F9-9C51-62C52F4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E95D-14D1-4D55-BA61-FF9AE88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7C16-5911-4DEC-813A-C1C0848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B00F9-DF85-4D3F-9A55-257D2A3F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57BA-4F4D-4846-BB52-7A112BD9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AA97-F283-4EED-8276-A66638C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9CAF-2925-4345-BF18-5F0C85B1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BE96B-047F-4705-8C15-725B5950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86D92-A7DC-468E-B03D-20CAB3C6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3F545-D01D-4096-948E-D490204D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6C3B2-F6E4-4071-B5F2-6200E555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6751B-EC4B-4821-9314-D300B4B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C94C5-7721-4CF8-8E90-700492A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9D222-6852-42CC-BFAC-301CC3CF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E4D1-2884-4746-BF5F-99C82CF3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27DD-506D-4FA3-955C-E8EBEA4F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C94A-DE33-4390-B747-A24BC5A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6DD6-A419-48F3-87A6-31E5627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DE075-FD3A-4464-B67C-735925F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BEE8-6462-4E88-A89E-205E299A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359E7-6650-47CF-BA3D-B21AC095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2C33-658B-4320-9C8F-A9D16D7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830-7F53-4E4B-820C-6F77619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AEF-6541-46E2-ACE5-87BDFE3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6101-030A-4B89-981B-A4E21ED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F2B-66C6-4369-B1D1-F1B9CA7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86E-EFA8-4640-AFE1-75CFF48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E67A-E359-47FD-A975-6D19DCB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528-8BF2-43C5-89AA-5E2C88D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AA6-4A04-45A6-B283-394BCE3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E07-E565-480E-9567-596EC280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A32-ECFD-4735-B580-4ED93CC5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A7D3-F601-4F66-B2E0-A5CB8A59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4ED8-B005-4F7C-94DB-BD5ADE4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857D-0B1C-4EA7-AB21-D4A6E052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4391-C000-41CA-A90C-53CF481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BD45-BC0D-42DA-A3F5-6B293006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B16-068E-4F53-B5FF-9E87EFA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057C-FA2A-4651-A8DB-F4B98AA7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53F9-A6F5-4F6C-8509-5F8300B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E781-1713-4312-A877-5A7532A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5FC7-77F8-4C62-B96F-9429562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EA35-D341-4D12-9369-313E583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D455-2355-4296-BE41-16E40CA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622B-5208-49F2-9E24-FF3C40EE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8431-1FA0-4814-9391-75B4F59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D1DE-6928-4D88-A002-AF5B95E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6654-E480-4EC6-A93F-390B228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CF6-B789-4AEE-B390-5137893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D350-3DFF-49AA-921F-5102ECA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52ED-C775-47A6-AAC5-485B114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02E5-C09F-4CFB-89C7-1F95D8E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451A-08DE-4C69-980C-F0B3EC1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78DD-A75D-4D86-9319-79A2EF4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0BAC-9BDD-4CA9-94CA-9C2BEE1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317E-8FA9-4D39-A2B7-DB32371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E819-EC10-4D80-87ED-4895BF78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A515-4823-4B6A-B4F4-B29A4B95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BD3F-BADC-4E52-BF54-9D6FCFF6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82F-5BCE-4198-A7EF-1A989E5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BF15-5497-4CC6-9F04-A0F1CCE1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6A43-BE36-465B-914C-92C33CB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B030-CADA-4203-91DA-BBD680B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5FDC-0A51-4FD2-BB64-6DE7C24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33D6-568D-432F-AF74-60BBD0F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51B2-FCFA-4E9D-A35C-1DF4DD8E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C4F3-F1D8-405A-8014-453D9E0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CB9B-95D7-4473-8639-419F4333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1274-A926-41C4-B615-2433C6B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B148-64B9-43FE-B607-3F418034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262-743D-4EEB-98E2-C44A3E6A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2F1E-291F-4338-B1D7-AA180001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53C6-F466-42D7-A6EB-D94AB2B5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E542-9A7D-4596-89EC-83C5345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86B9-59A1-4399-BA7B-14501F0B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4B33-10BA-45C4-9314-6A7BE1E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B1D4-4DD7-45B0-8320-0B9877C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2CCE-E462-4D16-9C40-046959C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6AE8-C9DB-44DE-94DC-35932A3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AB9A8-85BA-4243-B549-9DA98B6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3937-98D9-4BDF-96B5-C7D1A6FA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C48-C848-4D6E-A008-B4AFB81A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9F21-A584-49A7-9F19-03AA9FC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3118-7AA4-41CE-8C80-0487E8BA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BC40-16A7-4FA0-8E99-A4448B88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E917-D8C6-409A-9885-97C297E6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05FE3-D770-4A25-8C0A-A69BB60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57DC-F15C-424F-9DAA-572D7894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5ED4-A8BA-4A94-ACDF-AA29E68B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DF64-10AB-4A8C-9659-260F389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AA24-BF12-401D-BC90-BFC7EBEA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E5A6-EC3C-470E-A156-3689A9F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491-07ED-489D-B82E-098B32DD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4806-7517-4832-8FE5-594C415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AFA6-BC9B-4175-A242-CA9832F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AF03-C90F-48C2-854D-D0F25020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5E04A-A9A2-4E7B-8333-102FF553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9132-9667-4680-9473-49C6AA88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8A67-0DAB-4737-A98D-442276F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25DD-C376-4B46-9F97-5CB1E8C0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8CA84-C48F-41B5-B445-39A4964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D6BC-53EB-4074-B85E-B9CAA529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EE47-4580-4AF2-92AD-EDE3C5B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721-766B-4E73-A28A-745A98D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CF2E-6E42-4B8D-8D5A-ECFB0226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A73D3-3B59-4E6B-9BB0-48B2809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02C9-7F7A-4CF1-8806-5E25ADD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F171-6166-4BF8-A8EC-DAC8808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FE441-0314-453B-AB32-2E275C9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EE88-F5B8-4266-9F79-8895E7FE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FE09-5CFA-4E77-AB5C-06153155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4D7C-22BC-4C2A-97A0-CA7B1FA5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EFB7-C914-4ACA-907F-B854849A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7D28D-6374-47E0-AAB5-405DBDC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4C4-5258-47E2-9A7C-C185CB8D19E7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AIBS0105_NEONlogo"/>
          <p:cNvPicPr/>
          <p:nvPr/>
        </p:nvPicPr>
        <p:blipFill>
          <a:blip r:embed="rId3"/>
          <a:srcRect l="8571" t="29344" r="9426" b="29344"/>
          <a:stretch/>
        </p:blipFill>
        <p:spPr>
          <a:xfrm>
            <a:off x="281160" y="415800"/>
            <a:ext cx="685800" cy="2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028-992B-4E0A-9D88-DDDFCF017FF4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BE7-F9CB-4DD9-93B5-DB34852B5B7C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910-D293-43FC-A058-A1B261669667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3FA4-684C-48D5-946F-8109105DC77F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E88-533B-4D97-B5F4-E5E4BBAD3E35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441-BC66-4B5F-81AF-C71CA5D0BEDF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Univers 55"/>
              </a:rPr>
              <a:t>Click to ed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Univers 55"/>
              </a:rPr>
              <a:t>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52B-ED01-4685-8F2F-40ECAAAC361B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B05-3C03-4908-9107-3B4868212ED0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FD2-792E-46A9-AEF8-91133CA4195B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625E-D861-4166-8B38-D40AF893AA93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32C-3A7C-4F57-8192-84CC4E1D01A6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The National Ecological Observatory</a:t>
            </a:r>
            <a:br>
              <a:rPr sz="3600"/>
            </a:b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(NEON)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Brian Wee, Ph.D.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Chief of External Affairs, NEON, Inc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987-CAEE-4FE7-8314-2EC65B7AB044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StandardBearer"/>
          <p:cNvPicPr/>
          <p:nvPr/>
        </p:nvPicPr>
        <p:blipFill>
          <a:blip r:embed="rId1"/>
          <a:stretch/>
        </p:blipFill>
        <p:spPr>
          <a:xfrm>
            <a:off x="2514600" y="3809880"/>
            <a:ext cx="39276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End-to-end information processing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3A9-DC68-4AD4-B7C7-DAF39D121D66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C:\Documents and Settings\bwee\Desktop\New Folder\ddd\Fig.B.png"/>
          <p:cNvPicPr/>
          <p:nvPr/>
        </p:nvPicPr>
        <p:blipFill>
          <a:blip r:embed="rId1"/>
          <a:srcRect l="13059" t="30303" r="13598" b="24926"/>
          <a:stretch/>
        </p:blipFill>
        <p:spPr>
          <a:xfrm>
            <a:off x="990720" y="963720"/>
            <a:ext cx="7315200" cy="3074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NEON.FieldDataToApplications.ProcessFlow.v1.2.tif"/>
          <p:cNvPicPr/>
          <p:nvPr/>
        </p:nvPicPr>
        <p:blipFill>
          <a:blip r:embed="rId2"/>
          <a:stretch/>
        </p:blipFill>
        <p:spPr>
          <a:xfrm>
            <a:off x="1905120" y="3657600"/>
            <a:ext cx="5790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Information for Resource Management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49" name="Picture 3" descr="C:\Documents and Settings\bwee\Desktop\New Folder\ddd\Fig.E.jpg"/>
          <p:cNvPicPr/>
          <p:nvPr/>
        </p:nvPicPr>
        <p:blipFill>
          <a:blip r:embed="rId1"/>
          <a:stretch/>
        </p:blipFill>
        <p:spPr>
          <a:xfrm>
            <a:off x="920880" y="1047600"/>
            <a:ext cx="7461000" cy="55818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990720" y="5373720"/>
            <a:ext cx="3809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artment of the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C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Regional Climate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CC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Landscape Conservation Coope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NEON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A new major Facility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Basic discovery mission: To understand and predict the responses of living systems to environmental change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Research-to-operations mission: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Develop usable information for mission responsibilities from NEON observation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Develop interoperability on key measurements to allow extrapolation from NEON sites nationally and globally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Identify key new observations for extensive monitoring, transfer to operation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2280" y="25905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b2c5f"/>
                </a:solidFill>
                <a:latin typeface="Univers 55"/>
              </a:rPr>
              <a:t>END</a:t>
            </a:r>
            <a:endParaRPr b="0" lang="en-US" sz="42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2c5f"/>
                </a:solidFill>
                <a:latin typeface="Univers 55"/>
              </a:rPr>
              <a:t>Brian Wee</a:t>
            </a: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2c5f"/>
                </a:solidFill>
                <a:latin typeface="Univers 55"/>
              </a:rPr>
              <a:t>bwee@neoninc.org</a:t>
            </a: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063-FFF1-445F-B743-D392E9961FC0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 Goal</a:t>
            </a:r>
            <a:endParaRPr b="1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The goal of NEON is to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enable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understanding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forecasting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of the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impacts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of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climate change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,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land use change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and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invasive species</a:t>
            </a:r>
            <a:r>
              <a:rPr b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on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continental-scale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ecology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by providing infrastructure to support research, education and environmental management in these area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07" name="Picture 3" descr="Fig.A.pdf"/>
          <p:cNvPicPr/>
          <p:nvPr/>
        </p:nvPicPr>
        <p:blipFill>
          <a:blip r:embed="rId1"/>
          <a:stretch/>
        </p:blipFill>
        <p:spPr>
          <a:xfrm>
            <a:off x="1600200" y="3733920"/>
            <a:ext cx="6781680" cy="46479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4"/>
          <p:cNvSpPr/>
          <p:nvPr/>
        </p:nvSpPr>
        <p:spPr>
          <a:xfrm>
            <a:off x="3220560" y="601992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N Cause and Effect paradi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980-51CD-4EA2-BE80-2BD31469A615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53352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NEON, Inc. is a 501c(3) non-profit scientific organization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~80 employees (as of Jul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54 member institutions (universities and Federal e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16 member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HQ in Boulder, CO with a government relations office in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NEON is an observatory managed by NEON, Inc. and funded by the National Science Found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1"/>
          <p:cNvSpPr/>
          <p:nvPr/>
        </p:nvSpPr>
        <p:spPr>
          <a:xfrm>
            <a:off x="9907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, Inc.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Cascade of multi-scaled information from observations through analyses to users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4350600" y="23623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C:\Documents and Settings\bwee\Desktop\New Folder\Fig.D.png"/>
          <p:cNvPicPr/>
          <p:nvPr/>
        </p:nvPicPr>
        <p:blipFill>
          <a:blip r:embed="rId1"/>
          <a:srcRect l="12562" t="14805" r="13129" b="15219"/>
          <a:stretch/>
        </p:blipFill>
        <p:spPr>
          <a:xfrm>
            <a:off x="990720" y="1219320"/>
            <a:ext cx="72388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A National Observatory: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20 Eco-climatic Domains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18" name="Picture 4" descr="National_Strategy_Map-Mod.tif"/>
          <p:cNvPicPr/>
          <p:nvPr/>
        </p:nvPicPr>
        <p:blipFill>
          <a:blip r:embed="rId1"/>
          <a:stretch/>
        </p:blipFill>
        <p:spPr>
          <a:xfrm>
            <a:off x="609480" y="990720"/>
            <a:ext cx="81597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Typical NEON Site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20" name="Date Placeholder 2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2AA-00FD-4CC5-A0B2-625D046A12F5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fixed site still 4.tif"/>
          <p:cNvPicPr/>
          <p:nvPr/>
        </p:nvPicPr>
        <p:blipFill>
          <a:blip r:embed="rId1"/>
          <a:stretch/>
        </p:blipFill>
        <p:spPr>
          <a:xfrm>
            <a:off x="371520" y="1338120"/>
            <a:ext cx="8288280" cy="46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F4B-297D-407C-BAD4-DDC266800524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</a:rPr>
              <a:t>Site Schematic</a:t>
            </a:r>
            <a:endParaRPr b="1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28" name="Picture 8" descr="NEON-Site-Graphic_rev.jpg"/>
          <p:cNvPicPr/>
          <p:nvPr/>
        </p:nvPicPr>
        <p:blipFill>
          <a:blip r:embed="rId1"/>
          <a:stretch/>
        </p:blipFill>
        <p:spPr>
          <a:xfrm>
            <a:off x="3583080" y="966960"/>
            <a:ext cx="5465520" cy="5503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NEON-Site-Graphic_rev.jpg"/>
          <p:cNvPicPr/>
          <p:nvPr/>
        </p:nvPicPr>
        <p:blipFill>
          <a:blip r:embed="rId2"/>
          <a:stretch/>
        </p:blipFill>
        <p:spPr>
          <a:xfrm>
            <a:off x="201600" y="1244520"/>
            <a:ext cx="3119400" cy="23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0" name="Picture 7" descr="Tower Location Typical Drawing Short Tower New Soil Holes.bmp"/>
          <p:cNvPicPr/>
          <p:nvPr/>
        </p:nvPicPr>
        <p:blipFill>
          <a:blip r:embed="rId3"/>
          <a:stretch/>
        </p:blipFill>
        <p:spPr>
          <a:xfrm>
            <a:off x="201600" y="3710160"/>
            <a:ext cx="4514760" cy="27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1" name="Rectangle 8"/>
          <p:cNvSpPr/>
          <p:nvPr/>
        </p:nvSpPr>
        <p:spPr>
          <a:xfrm>
            <a:off x="507960" y="5114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il Ar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Out Bound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2593800" y="483552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mentation H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1711080" y="5240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Documents and Settings\bwee\Desktop\New Folder\ddd\Fig.C.png"/>
          <p:cNvPicPr/>
          <p:nvPr/>
        </p:nvPicPr>
        <p:blipFill>
          <a:blip r:embed="rId1"/>
          <a:srcRect l="12841" t="31904" r="18259" b="26194"/>
          <a:stretch/>
        </p:blipFill>
        <p:spPr>
          <a:xfrm>
            <a:off x="1709640" y="3505320"/>
            <a:ext cx="6672240" cy="31575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 Data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120" y="1371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Biodiversity in terrestrial and aquatic taxa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Ecological genomics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opulation dynamics and demograph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roductivity and carbon fluxes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henolog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Infectious disease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Systematics (Barcoding and BioArchive)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Stoichiometry and nutrient limitation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Ecohydrolog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</p:txBody>
      </p:sp>
      <p:grpSp>
        <p:nvGrpSpPr>
          <p:cNvPr id="537" name="Group 8"/>
          <p:cNvGrpSpPr/>
          <p:nvPr/>
        </p:nvGrpSpPr>
        <p:grpSpPr>
          <a:xfrm>
            <a:off x="4952880" y="4495680"/>
            <a:ext cx="1295640" cy="914400"/>
            <a:chOff x="4952880" y="4495680"/>
            <a:chExt cx="1295640" cy="914400"/>
          </a:xfrm>
        </p:grpSpPr>
        <p:sp>
          <p:nvSpPr>
            <p:cNvPr id="538" name="Right Arrow 12"/>
            <p:cNvSpPr/>
            <p:nvPr/>
          </p:nvSpPr>
          <p:spPr>
            <a:xfrm>
              <a:off x="4952880" y="4495680"/>
              <a:ext cx="1295640" cy="9144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c3d69b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4952880" y="4724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Arial"/>
                </a:rPr>
                <a:t>Lab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4678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Univers 55"/>
              </a:rPr>
              <a:t>Notional Flight Plan for Standard Observations of NEON Core and Relocatable Sites</a:t>
            </a:r>
            <a:endParaRPr b="1" lang="en-US" sz="23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41" name="Picture 6" descr="Flightpath"/>
          <p:cNvPicPr/>
          <p:nvPr/>
        </p:nvPicPr>
        <p:blipFill>
          <a:blip r:embed="rId1"/>
          <a:stretch/>
        </p:blipFill>
        <p:spPr>
          <a:xfrm>
            <a:off x="914400" y="1066680"/>
            <a:ext cx="6324480" cy="42577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7"/>
          <p:cNvSpPr/>
          <p:nvPr/>
        </p:nvSpPr>
        <p:spPr>
          <a:xfrm>
            <a:off x="6858000" y="18288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2 payloads in operation from roughly April to S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990720" y="5440320"/>
            <a:ext cx="761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ional flight plan for payload 1 (blue dots) and payload 2 (orange diamonds). The location of the vicarious ground site is indicated by the </a:t>
            </a:r>
            <a:r>
              <a:rPr b="0" i="1" lang="en-US" sz="16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This flight plan has been optimized to survey each domain at its period of peak greenness and when cloud cover is expected to be mini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6:39:36Z</dcterms:created>
  <dc:creator>tbeasley</dc:creator>
  <dc:description/>
  <dc:language>en-US</dc:language>
  <cp:lastModifiedBy>Brian</cp:lastModifiedBy>
  <dcterms:modified xsi:type="dcterms:W3CDTF">2010-07-27T14:08:31Z</dcterms:modified>
  <cp:revision>403</cp:revision>
  <dc:subject/>
  <dc:title>Slide 1</dc:title>
</cp:coreProperties>
</file>